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2308-CA92-45B5-8383-07D2DE33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5AD8-D917-40BD-A3FB-CE71596C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B9AB-239E-47D7-993C-87F52C406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1F14-6F12-4E5C-9A4F-3BE18EF8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D2EA-BD83-4F9F-B1C8-4ED030F2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D9C5-102B-41A9-861C-2E4BABAA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1A06-9E65-46B8-BC0F-634B1E2F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0A1A-6ACC-464E-8997-10C5C5C9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60EC-3B55-41C9-93A3-705176D3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EC13-FDBE-4C55-9DC0-5300011F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6F9D-D402-4085-85E8-75CB7316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71A1-886F-44EE-A5BE-7E2CDFD4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FD29-18FE-446C-8F94-E50B20F7A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71760" y="380880"/>
            <a:ext cx="42004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08160" y="0"/>
            <a:ext cx="482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7360" y="380880"/>
            <a:ext cx="83692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60480" y="260280"/>
            <a:ext cx="54230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9291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61976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54000" y="380880"/>
            <a:ext cx="7236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55800" y="380880"/>
            <a:ext cx="36338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3880" y="-876240"/>
            <a:ext cx="6096240" cy="86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5T19:10:38Z</dcterms:created>
  <dc:creator>rob</dc:creator>
  <dc:description/>
  <dc:language>en-US</dc:language>
  <cp:lastModifiedBy>rwh</cp:lastModifiedBy>
  <dcterms:modified xsi:type="dcterms:W3CDTF">2011-01-28T04:22:26Z</dcterms:modified>
  <cp:revision>5</cp:revision>
  <dc:subject/>
  <dc:title>Slide 1</dc:title>
</cp:coreProperties>
</file>